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706-9CD8-44F3-9E42-AB8E194A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2B4-1967-4F22-B356-C17E978F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9E3-E0F9-4CCC-AE18-AC00EF3B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21F-92FF-4483-8ED2-5BBF10FF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DF4-745C-4B7F-943C-B8F17DCF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C18-AFA7-448F-87D4-08727B3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7C9-4093-4AAA-92E0-1ECE027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3D7-31A7-4AA0-B559-E15D00ED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E38-83C9-468C-8EF5-9855A8D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62E-87E2-4609-BFA2-B083756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A9E-DB01-46EE-A106-F484346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552-AA2E-48D3-A455-22B8F70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26753-518B-4470-B74F-6A26A8F207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DB314-2601-4E13-B3C4-7D11FE24B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How do prokaryotic cells reproduce?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itosis produces 2 daughter cells which have the same number of chromosomes as the parent cell.  These daughter cells are body cells (like skin cells, muscle cells, and nerve cells)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ow many daughter cells does mitosis produce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f a human cell has 46 chromosomes before it divides, how many chromosomes will the daughter cells have after mitosi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type of cells does mitosis produce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9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alibri"/>
              </a:rPr>
              <a:t>The purpose of mitosis is to help an organism grow and develop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911760" y="4299120"/>
            <a:ext cx="52322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What is the function of mitosis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is produced by mitosi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s mitosis a type of cell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s mitosis a proces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is the purpose of mitosi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89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ow has 60 chromosomes.  A scientist observes a slime mold cell go through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iosi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daughter cells will the scientist s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did the parent cell ha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any chromosomes will a daughter cell hav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3.8 Independent Practice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nput – Notes on Mito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Guided Practice – Team work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Independent Practice – Handou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After today you will be able to explain the outcome and purpose of mitosis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Goal 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80% Mastery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 u="sng">
                <a:solidFill>
                  <a:srgbClr val="000000"/>
                </a:solidFill>
                <a:uFillTx/>
                <a:latin typeface="Calibri"/>
              </a:rPr>
              <a:t>3.8 Mitosis Class Not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 chromosome is a tightly coiled piece of DNA which contains many gen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270480" y="38210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57200" y="4035600"/>
            <a:ext cx="32004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2640" y="1417680"/>
            <a:ext cx="68310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Calibri"/>
              </a:rPr>
              <a:t>In cell division, a cell’s chromosomes are copied and the cell divides into new cells which are called daughter cells. The original cell is called the parent cell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do we call a tightly coiled piece of DNA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Before a cell divides, what do we call the original cell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After a cell divides, what do we call the two new cells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19040" y="6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There are two types of cell division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Mitosi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Meiosis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59400" y="1795320"/>
            <a:ext cx="4010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54:56Z</dcterms:created>
  <dc:creator>Caroline Roth</dc:creator>
  <dc:description/>
  <dc:language>en-US</dc:language>
  <cp:lastModifiedBy>Caroline Roth</cp:lastModifiedBy>
  <dcterms:modified xsi:type="dcterms:W3CDTF">2010-10-28T11:31:27Z</dcterms:modified>
  <cp:revision>4</cp:revision>
  <dc:subject/>
  <dc:title>Bellringer</dc:title>
</cp:coreProperties>
</file>